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536-31E6-44BE-B1A3-938944F5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57A-9D43-4A09-87D6-00FAC576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F29-FBFE-49D4-B7DC-15370D86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B55-0ACB-45BE-97D7-89D6BF32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28D-C4C9-453C-BB18-FDC0E7A1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885-54A8-43B1-9443-DEF893F7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9F4-B35C-437E-8AA0-C854E30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4C3-D270-4DC5-9DCD-4BD4D07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3E4-0ADA-427D-9980-FAAEAC84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75A-D5AF-4C1E-94E8-4B18848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AB4-2D19-45CD-978A-9AEF1CA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79F-2DF3-4C75-831C-F7BEF40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20D-0AF2-4C71-8C97-A3F8915B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920" y="358920"/>
            <a:ext cx="424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82828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282828"/>
                </a:solidFill>
                <a:latin typeface="Times New Roman"/>
              </a:rPr>
              <a:t>Gitá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ed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gitár szó a spanyol guitarra-ból, ez pedig – arab közvetítéssel – a görög kitharából származi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húros hangszerek, ezen belül a pengetős hangszerek csoportjába tartozó hangsz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gszólaltatása pengetővel, illetve ujjal történi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ár felép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ngolókulc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úrvezető nye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y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in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gó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d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ngly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ú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úrlá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8000" y="1197000"/>
            <a:ext cx="2036880" cy="5041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16720" y="1268280"/>
            <a:ext cx="287280" cy="865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213372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3789360"/>
            <a:ext cx="360360" cy="237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48428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7082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y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65300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árfajt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usztikus gi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lasszikus gi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ktromos gi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ektro-akusztikus gi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036880" cy="504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1484280"/>
            <a:ext cx="2774880" cy="503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948360" y="981000"/>
            <a:ext cx="1987560" cy="544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948360" y="1628640"/>
            <a:ext cx="1857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7:39:41Z</dcterms:created>
  <dc:creator>csaba</dc:creator>
  <dc:description/>
  <dc:language>en-US</dc:language>
  <cp:lastModifiedBy>csaba</cp:lastModifiedBy>
  <dcterms:modified xsi:type="dcterms:W3CDTF">2014-05-16T08:02:10Z</dcterms:modified>
  <cp:revision>12</cp:revision>
  <dc:subject/>
  <dc:title>1. dia</dc:title>
</cp:coreProperties>
</file>