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E932-B48B-4F29-9866-7C8C6406F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6380-D0EF-42D1-920A-C6777EAE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E471-411A-4CA2-85E6-F8D346488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9E93-B6F1-413E-A204-FB430A112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25B1-42B7-49A7-AB26-EFFB1840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505C-A73B-49BE-BAE9-98D6CACB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345E-BB0B-4BE1-89A0-B4B90BCF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8B08-AF5C-4A6E-8F6A-1226EE1F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3F35-541D-4C26-8F91-174C7652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E5CB-0CBD-40BF-BA1A-7A281262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A077-43F8-4576-B127-6BEA642C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1F1A-E9CF-4DF0-AA94-77236265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7044-CC31-4E88-BB37-5435C4CF7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2828"/>
                </a:solidFill>
                <a:latin typeface="Wide Latin"/>
              </a:rPr>
              <a:t>Gitá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2828"/>
                </a:solidFill>
                <a:latin typeface="Arial"/>
              </a:rPr>
              <a:t>Ered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82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282828"/>
                </a:solidFill>
                <a:latin typeface="Arial"/>
              </a:rPr>
              <a:t>A gitár szó a spanyol guitarra-ból, ez pedig – arab közvetítéssel – a görög kitharából származi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282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282828"/>
                </a:solidFill>
                <a:latin typeface="Arial"/>
              </a:rPr>
              <a:t>A húros hangszerek, ezen belül a pengetős hangszerek csoportjába tartozó hangsze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282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282828"/>
                </a:solidFill>
                <a:latin typeface="Arial"/>
              </a:rPr>
              <a:t>Megszólaltatása pengetővel, illetve ujjal történik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2828"/>
                </a:solidFill>
                <a:latin typeface="Arial"/>
              </a:rPr>
              <a:t>Gitár felépít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282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282828"/>
                </a:solidFill>
                <a:latin typeface="Arial"/>
              </a:rPr>
              <a:t>Fe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2828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282828"/>
                </a:solidFill>
                <a:latin typeface="Arial"/>
              </a:rPr>
              <a:t>Hangolókulc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2828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282828"/>
                </a:solidFill>
                <a:latin typeface="Arial"/>
              </a:rPr>
              <a:t>Húrvezető nye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282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282828"/>
                </a:solidFill>
                <a:latin typeface="Arial"/>
              </a:rPr>
              <a:t>Nya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2828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282828"/>
                </a:solidFill>
                <a:latin typeface="Arial"/>
              </a:rPr>
              <a:t>Érintő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2828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282828"/>
                </a:solidFill>
                <a:latin typeface="Arial"/>
              </a:rPr>
              <a:t>Fogól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282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282828"/>
                </a:solidFill>
                <a:latin typeface="Arial"/>
              </a:rPr>
              <a:t>T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2828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282828"/>
                </a:solidFill>
                <a:latin typeface="Arial"/>
              </a:rPr>
              <a:t>Fedl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2828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282828"/>
                </a:solidFill>
                <a:latin typeface="Arial"/>
              </a:rPr>
              <a:t>Hangly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2828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282828"/>
                </a:solidFill>
                <a:latin typeface="Arial"/>
              </a:rPr>
              <a:t>Húr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2828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282828"/>
                </a:solidFill>
                <a:latin typeface="Arial"/>
              </a:rPr>
              <a:t>Húrlá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372360" y="1557360"/>
            <a:ext cx="182880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796000" y="1628640"/>
            <a:ext cx="731880" cy="757440"/>
          </a:xfrm>
          <a:custGeom>
            <a:avLst/>
            <a:gdLst/>
            <a:ahLst/>
            <a:rect l="l" t="t" r="r" b="b"/>
            <a:pathLst>
              <a:path w="461" h="477">
                <a:moveTo>
                  <a:pt x="461" y="38"/>
                </a:moveTo>
                <a:cubicBezTo>
                  <a:pt x="366" y="19"/>
                  <a:pt x="272" y="0"/>
                  <a:pt x="234" y="38"/>
                </a:cubicBezTo>
                <a:cubicBezTo>
                  <a:pt x="196" y="76"/>
                  <a:pt x="272" y="227"/>
                  <a:pt x="234" y="265"/>
                </a:cubicBezTo>
                <a:cubicBezTo>
                  <a:pt x="196" y="303"/>
                  <a:pt x="0" y="265"/>
                  <a:pt x="7" y="265"/>
                </a:cubicBezTo>
                <a:cubicBezTo>
                  <a:pt x="14" y="265"/>
                  <a:pt x="241" y="235"/>
                  <a:pt x="279" y="265"/>
                </a:cubicBezTo>
                <a:cubicBezTo>
                  <a:pt x="317" y="295"/>
                  <a:pt x="211" y="417"/>
                  <a:pt x="234" y="447"/>
                </a:cubicBezTo>
                <a:cubicBezTo>
                  <a:pt x="257" y="477"/>
                  <a:pt x="377" y="455"/>
                  <a:pt x="415" y="44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24360" y="2276640"/>
            <a:ext cx="935280" cy="1596960"/>
          </a:xfrm>
          <a:custGeom>
            <a:avLst/>
            <a:gdLst/>
            <a:ahLst/>
            <a:rect l="l" t="t" r="r" b="b"/>
            <a:pathLst>
              <a:path w="589" h="1006">
                <a:moveTo>
                  <a:pt x="499" y="76"/>
                </a:moveTo>
                <a:cubicBezTo>
                  <a:pt x="423" y="38"/>
                  <a:pt x="347" y="0"/>
                  <a:pt x="317" y="76"/>
                </a:cubicBezTo>
                <a:cubicBezTo>
                  <a:pt x="287" y="152"/>
                  <a:pt x="370" y="454"/>
                  <a:pt x="317" y="530"/>
                </a:cubicBezTo>
                <a:cubicBezTo>
                  <a:pt x="264" y="606"/>
                  <a:pt x="0" y="530"/>
                  <a:pt x="0" y="530"/>
                </a:cubicBezTo>
                <a:cubicBezTo>
                  <a:pt x="0" y="530"/>
                  <a:pt x="256" y="462"/>
                  <a:pt x="317" y="530"/>
                </a:cubicBezTo>
                <a:cubicBezTo>
                  <a:pt x="378" y="598"/>
                  <a:pt x="318" y="870"/>
                  <a:pt x="363" y="938"/>
                </a:cubicBezTo>
                <a:cubicBezTo>
                  <a:pt x="408" y="1006"/>
                  <a:pt x="566" y="938"/>
                  <a:pt x="589" y="93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24360" y="3716280"/>
            <a:ext cx="1152720" cy="2340000"/>
          </a:xfrm>
          <a:custGeom>
            <a:avLst/>
            <a:gdLst/>
            <a:ahLst/>
            <a:rect l="l" t="t" r="r" b="b"/>
            <a:pathLst>
              <a:path w="726" h="1474">
                <a:moveTo>
                  <a:pt x="590" y="1368"/>
                </a:moveTo>
                <a:cubicBezTo>
                  <a:pt x="457" y="1421"/>
                  <a:pt x="325" y="1474"/>
                  <a:pt x="272" y="1368"/>
                </a:cubicBezTo>
                <a:cubicBezTo>
                  <a:pt x="219" y="1262"/>
                  <a:pt x="317" y="846"/>
                  <a:pt x="272" y="733"/>
                </a:cubicBezTo>
                <a:cubicBezTo>
                  <a:pt x="227" y="620"/>
                  <a:pt x="0" y="695"/>
                  <a:pt x="0" y="687"/>
                </a:cubicBezTo>
                <a:cubicBezTo>
                  <a:pt x="0" y="679"/>
                  <a:pt x="219" y="785"/>
                  <a:pt x="272" y="687"/>
                </a:cubicBezTo>
                <a:cubicBezTo>
                  <a:pt x="325" y="589"/>
                  <a:pt x="241" y="196"/>
                  <a:pt x="317" y="98"/>
                </a:cubicBezTo>
                <a:cubicBezTo>
                  <a:pt x="393" y="0"/>
                  <a:pt x="726" y="91"/>
                  <a:pt x="726" y="9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59280" y="184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16360" y="292428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y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59280" y="4581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2828"/>
                </a:solidFill>
                <a:latin typeface="Arial"/>
              </a:rPr>
              <a:t>Gitárfajtá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82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282828"/>
                </a:solidFill>
                <a:latin typeface="Arial"/>
              </a:rPr>
              <a:t>Akusztikus gitá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82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282828"/>
                </a:solidFill>
                <a:latin typeface="Arial"/>
              </a:rPr>
              <a:t>Klasszikus gitá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82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282828"/>
                </a:solidFill>
                <a:latin typeface="Arial"/>
              </a:rPr>
              <a:t>Elektromos gitá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82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282828"/>
                </a:solidFill>
                <a:latin typeface="Arial"/>
              </a:rPr>
              <a:t>Elektro-akusztikus gitá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659640" y="1125360"/>
            <a:ext cx="1857240" cy="5043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659640" y="1125360"/>
            <a:ext cx="1838160" cy="5038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516720" y="1125360"/>
            <a:ext cx="2036880" cy="5038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012000" y="1125360"/>
            <a:ext cx="277488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6T07:43:12Z</dcterms:created>
  <dc:creator>aron</dc:creator>
  <dc:description/>
  <dc:language>en-US</dc:language>
  <cp:lastModifiedBy>aron</cp:lastModifiedBy>
  <dcterms:modified xsi:type="dcterms:W3CDTF">2014-05-16T08:57:42Z</dcterms:modified>
  <cp:revision>6</cp:revision>
  <dc:subject/>
  <dc:title>1. dia</dc:title>
</cp:coreProperties>
</file>